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944640"/>
            <a:ext cx="4341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29960" y="4676400"/>
            <a:ext cx="460044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74960" y="933768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09DCD-DD35-47E3-A108-2842BB9F05E7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3800" y="944640"/>
            <a:ext cx="45338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774960" y="933768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15F7D-1EF1-4B5C-90E3-DE07EEFA645E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7676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97A7A-BA35-4068-985F-C023F3700D59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4800" y="736560"/>
            <a:ext cx="491472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5880" cy="762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60360" y="3780000"/>
            <a:ext cx="828036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700" spc="-1" strike="noStrike">
                <a:solidFill>
                  <a:srgbClr val="005490"/>
                </a:solidFill>
                <a:latin typeface="Calibri"/>
              </a:rPr>
              <a:t>A REFORMA PSIQUIÁTRICA BRASILEIRA E OS TRABALHADORES: DESAFIOS DA GESTÃO DO TRABALHO</a:t>
            </a:r>
            <a:br>
              <a:rPr sz="2700"/>
            </a:br>
            <a:endParaRPr b="0" lang="en-US" sz="27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4775040"/>
            <a:ext cx="7129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51200" y="5502240"/>
            <a:ext cx="47084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642960"/>
            <a:ext cx="24289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IV Conferência Estadual de Saúde Mental Intersetorial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Saúde Mental e Políticas de Estado: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pactuar caminhos intersetoriai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4200" y="5072040"/>
            <a:ext cx="692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92680" y="5211720"/>
            <a:ext cx="45720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Liliana Santo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INSTITUTO DE SAÚDE COLETIVA/UFBA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Salvador, 25 de maio de 2010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0040" y="500040"/>
            <a:ext cx="476244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549360"/>
            <a:ext cx="4174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rocesso de Trabalh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em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1000" y="1800360"/>
            <a:ext cx="4753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Campo Conceitual </a:t>
            </a:r>
            <a:r>
              <a:rPr b="0" lang="pt-BR" sz="2000" spc="-1" strike="noStrike" u="sng">
                <a:solidFill>
                  <a:srgbClr val="0070c0"/>
                </a:solidFill>
                <a:uFillTx/>
                <a:latin typeface="Arial"/>
              </a:rPr>
              <a:t>Assistência à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07000" y="2182680"/>
            <a:ext cx="180036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Aten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Particip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87600" y="1292400"/>
            <a:ext cx="358920" cy="576000"/>
          </a:xfrm>
          <a:prstGeom prst="downArrow">
            <a:avLst>
              <a:gd name="adj1" fmla="val 35398"/>
              <a:gd name="adj2" fmla="val 50841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4040" y="2948040"/>
            <a:ext cx="5183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Campo Conceitual </a:t>
            </a:r>
            <a:r>
              <a:rPr b="0" lang="pt-BR" sz="2000" spc="-1" strike="noStrike" u="sng">
                <a:solidFill>
                  <a:srgbClr val="0070c0"/>
                </a:solidFill>
                <a:uFillTx/>
                <a:latin typeface="Arial"/>
              </a:rPr>
              <a:t>Trabalho em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59360" y="3443400"/>
            <a:ext cx="2736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Exercício Profissional</a:t>
            </a:r>
            <a:r>
              <a:rPr b="0" lang="pt-BR" sz="2000" spc="-1" strike="noStrike">
                <a:solidFill>
                  <a:srgbClr val="ffffd1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Formação Profissional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3920" y="981000"/>
            <a:ext cx="432000" cy="1943280"/>
          </a:xfrm>
          <a:prstGeom prst="downArrow">
            <a:avLst>
              <a:gd name="adj1" fmla="val 35398"/>
              <a:gd name="adj2" fmla="val 142510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5400000">
            <a:off x="5653440" y="1956600"/>
            <a:ext cx="574920" cy="1150920"/>
          </a:xfrm>
          <a:custGeom>
            <a:avLst/>
            <a:gdLst>
              <a:gd name="textAreaLeft" fmla="*/ 0 w 574920"/>
              <a:gd name="textAreaRight" fmla="*/ 487440 w 574920"/>
              <a:gd name="textAreaTop" fmla="*/ 102456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7304" y="0"/>
                </a:moveTo>
                <a:lnTo>
                  <a:pt x="13007" y="8088"/>
                </a:lnTo>
                <a:lnTo>
                  <a:pt x="16298" y="8088"/>
                </a:lnTo>
                <a:lnTo>
                  <a:pt x="16298" y="19228"/>
                </a:lnTo>
                <a:lnTo>
                  <a:pt x="0" y="19228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3" idx="2"/>
          </p:cNvCxnSpPr>
          <p:nvPr/>
        </p:nvCxnSpPr>
        <p:spPr>
          <a:xfrm flipV="1" rot="10800000">
            <a:off x="6651000" y="3126960"/>
            <a:ext cx="756360" cy="505440"/>
          </a:xfrm>
          <a:prstGeom prst="bentConnector3">
            <a:avLst>
              <a:gd name="adj1" fmla="val 50000"/>
            </a:avLst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 rot="5400000">
            <a:off x="3192840" y="3074040"/>
            <a:ext cx="504720" cy="1150920"/>
          </a:xfrm>
          <a:custGeom>
            <a:avLst/>
            <a:gdLst>
              <a:gd name="textAreaLeft" fmla="*/ 0 w 504720"/>
              <a:gd name="textAreaRight" fmla="*/ 428040 w 504720"/>
              <a:gd name="textAreaTop" fmla="*/ 102456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7304" y="0"/>
                </a:moveTo>
                <a:lnTo>
                  <a:pt x="13007" y="8088"/>
                </a:lnTo>
                <a:lnTo>
                  <a:pt x="16298" y="8088"/>
                </a:lnTo>
                <a:lnTo>
                  <a:pt x="16298" y="19228"/>
                </a:lnTo>
                <a:lnTo>
                  <a:pt x="0" y="19228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99000" y="2168640"/>
            <a:ext cx="7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rt. 198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79720" y="3281400"/>
            <a:ext cx="7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rt. 200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440000">
            <a:off x="8023320" y="3668760"/>
            <a:ext cx="358560" cy="569880"/>
          </a:xfrm>
          <a:prstGeom prst="downArrow">
            <a:avLst>
              <a:gd name="adj1" fmla="val 35398"/>
              <a:gd name="adj2" fmla="val 82587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15080" y="4071960"/>
            <a:ext cx="1714680" cy="1227240"/>
          </a:xfrm>
          <a:prstGeom prst="rect">
            <a:avLst/>
          </a:prstGeom>
          <a:noFill/>
          <a:ln w="936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Aten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Particip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Form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7360" y="4316400"/>
            <a:ext cx="431640" cy="876240"/>
          </a:xfrm>
          <a:prstGeom prst="downArrow">
            <a:avLst>
              <a:gd name="adj1" fmla="val 35398"/>
              <a:gd name="adj2" fmla="val 64312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10120" y="5337000"/>
            <a:ext cx="4730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Trabalhadores x Recursos Human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7000" y="571680"/>
            <a:ext cx="5624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Tahoma"/>
              </a:rPr>
              <a:t>Trabalhadores x Recursos Human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1143000"/>
            <a:ext cx="314280" cy="468360"/>
          </a:xfrm>
          <a:prstGeom prst="downArrow">
            <a:avLst>
              <a:gd name="adj1" fmla="val 35398"/>
              <a:gd name="adj2" fmla="val 47212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43160" y="1643040"/>
            <a:ext cx="3392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Afetos / compromissos / engajamentos / motivações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0800" y="2571840"/>
            <a:ext cx="2376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são </a:t>
            </a:r>
            <a:r>
              <a:rPr b="0" lang="pt-BR" sz="2000" spc="-1" strike="noStrike" u="sng">
                <a:solidFill>
                  <a:srgbClr val="c00000"/>
                </a:solidFill>
                <a:uFillTx/>
                <a:latin typeface="Arial"/>
              </a:rPr>
              <a:t>produzidos</a:t>
            </a: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 e não </a:t>
            </a:r>
            <a:r>
              <a:rPr b="0" lang="pt-BR" sz="2000" spc="-1" strike="noStrike" u="sng">
                <a:solidFill>
                  <a:srgbClr val="c00000"/>
                </a:solidFill>
                <a:uFillTx/>
                <a:latin typeface="Arial"/>
              </a:rPr>
              <a:t>distribuíd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066680"/>
            <a:ext cx="289080" cy="1800360"/>
          </a:xfrm>
          <a:prstGeom prst="downArrow">
            <a:avLst>
              <a:gd name="adj1" fmla="val 35398"/>
              <a:gd name="adj2" fmla="val 19730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2862360"/>
            <a:ext cx="3311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Em equipe,  são coletiv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3451320"/>
            <a:ext cx="31687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podem ser organizad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3835440"/>
            <a:ext cx="358920" cy="576360"/>
          </a:xfrm>
          <a:prstGeom prst="downArrow">
            <a:avLst>
              <a:gd name="adj1" fmla="val 35398"/>
              <a:gd name="adj2" fmla="val 5087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7760" y="4429080"/>
            <a:ext cx="3311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não é um processo natural,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precisa ser construíd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2660760" y="3159000"/>
            <a:ext cx="574560" cy="733680"/>
          </a:xfrm>
          <a:custGeom>
            <a:avLst/>
            <a:gdLst>
              <a:gd name="textAreaLeft" fmla="*/ 0 w 574560"/>
              <a:gd name="textAreaRight" fmla="*/ 487080 w 574560"/>
              <a:gd name="textAreaTop" fmla="*/ 57528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6331" y="0"/>
                </a:moveTo>
                <a:lnTo>
                  <a:pt x="11062" y="8088"/>
                </a:lnTo>
                <a:lnTo>
                  <a:pt x="14353" y="8088"/>
                </a:lnTo>
                <a:lnTo>
                  <a:pt x="14353" y="16933"/>
                </a:lnTo>
                <a:lnTo>
                  <a:pt x="0" y="16933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4482360" y="2247120"/>
            <a:ext cx="574560" cy="804960"/>
          </a:xfrm>
          <a:custGeom>
            <a:avLst/>
            <a:gdLst>
              <a:gd name="textAreaLeft" fmla="*/ 0 w 574560"/>
              <a:gd name="textAreaRight" fmla="*/ 487080 w 574560"/>
              <a:gd name="textAreaTop" fmla="*/ 631080 h 804960"/>
              <a:gd name="textAreaBottom" fmla="*/ 805320 h 804960"/>
            </a:gdLst>
            <a:ahLst/>
            <a:rect l="textAreaLeft" t="textAreaTop" r="textAreaRight" b="textAreaBottom"/>
            <a:pathLst>
              <a:path w="21600" h="21600">
                <a:moveTo>
                  <a:pt x="16331" y="0"/>
                </a:moveTo>
                <a:lnTo>
                  <a:pt x="11062" y="8088"/>
                </a:lnTo>
                <a:lnTo>
                  <a:pt x="14353" y="8088"/>
                </a:lnTo>
                <a:lnTo>
                  <a:pt x="14353" y="16933"/>
                </a:lnTo>
                <a:lnTo>
                  <a:pt x="0" y="16933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181480"/>
            <a:ext cx="358920" cy="576360"/>
          </a:xfrm>
          <a:prstGeom prst="downArrow">
            <a:avLst>
              <a:gd name="adj1" fmla="val 35398"/>
              <a:gd name="adj2" fmla="val 5087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5681520"/>
            <a:ext cx="63403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3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100" spc="-1" strike="noStrike">
                <a:solidFill>
                  <a:srgbClr val="c00000"/>
                </a:solidFill>
                <a:latin typeface="Arial"/>
              </a:rPr>
              <a:t>Gestão do Trabalho e da Educação na Saúde</a:t>
            </a:r>
            <a:endParaRPr b="0" lang="en-US" sz="21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7120" y="428760"/>
            <a:ext cx="8043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bc2669"/>
                </a:solidFill>
                <a:latin typeface="Calibri"/>
              </a:rPr>
              <a:t>Trabalho em equipe e integralidade com ênfase na </a:t>
            </a:r>
            <a:r>
              <a:rPr b="0" i="1" lang="pt-BR" sz="2800" spc="-1" strike="noStrike">
                <a:solidFill>
                  <a:srgbClr val="bc2669"/>
                </a:solidFill>
                <a:latin typeface="Calibri"/>
              </a:rPr>
              <a:t>micropolítica</a:t>
            </a:r>
            <a:r>
              <a:rPr b="0" lang="pt-BR" sz="2800" spc="-1" strike="noStrike">
                <a:solidFill>
                  <a:srgbClr val="bc2669"/>
                </a:solidFill>
                <a:latin typeface="Calibri"/>
              </a:rPr>
              <a:t> do trabalho em saú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760" y="1859040"/>
            <a:ext cx="807228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575"/>
              </a:spcBef>
              <a:buClr>
                <a:srgbClr val="333333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Produção de saúde como </a:t>
            </a:r>
            <a:r>
              <a:rPr b="0" i="1" lang="pt-BR" sz="2400" spc="-1" strike="noStrike">
                <a:solidFill>
                  <a:srgbClr val="333333"/>
                </a:solidFill>
                <a:latin typeface="Calibri"/>
              </a:rPr>
              <a:t>processos de trabalho vivo em ato: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800" spc="-1" strike="noStrike">
                <a:solidFill>
                  <a:srgbClr val="333333"/>
                </a:solidFill>
                <a:latin typeface="Calibri"/>
              </a:rPr>
              <a:t>Arena de expressão de interesses diversos, com efeitos nas práticas de cuidado: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lvl="2" marL="8161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eb0c9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Lógica hegemônica: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 trabalho fragmentado, despersonalizado, com oferta predominante de tecnologias duras e leve-duras, usuário reificado à categoria paciente, trabalhador predominantemente capturado pela técnica e pelo conhecimento estruturado;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2" marL="8161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eb0c9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Lógica inovadora: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 coordenação do cuidado, responsabilidade pelo cuidado, projetos terapêuticos singulares, domínio de tecnologias leves voltadas para a escuta e a produção de relações cuidadoras, equipes-integração.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1680" y="785880"/>
            <a:ext cx="75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70c0"/>
                </a:solidFill>
                <a:latin typeface="Verdana"/>
              </a:rPr>
              <a:t>O sistema de saúde brasileiro e a gestão do trabalho e da educação na saúde: a realida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0720" y="2133720"/>
            <a:ext cx="7710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Verdana"/>
              </a:rPr>
              <a:t>Heterogeneidade</a:t>
            </a:r>
            <a:r>
              <a:rPr b="0" lang="pt-BR" sz="2400" spc="-1" strike="noStrike">
                <a:solidFill>
                  <a:srgbClr val="c00000"/>
                </a:solidFill>
                <a:latin typeface="Verdana"/>
              </a:rPr>
              <a:t> socioeconômica e concentração de renda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Forte concentração de renda e reduzida capacidade redistributiva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Diversificadas capacidades administrativas e fiscai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Carência de ações ampliadas de desenvolvimento social e econômico includente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70c0"/>
                </a:solidFill>
                <a:latin typeface="Verdana"/>
              </a:rPr>
              <a:t>O sistema de saúde brasileiro e a gestão do trabalho e da educação na saú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2133720"/>
            <a:ext cx="7961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</a:rPr>
              <a:t>Desigualdades de ofertas do mercado educativo para formação profissional na área da saúde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0000"/>
              </a:lnSpc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  <a:ea typeface="MS Gothic"/>
              </a:rPr>
              <a:t>Quantitativas - concentrações regionais 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0000"/>
              </a:lnSpc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  <a:ea typeface="MS Gothic"/>
              </a:rPr>
              <a:t>Qualitativas -proliferação desordenada de cursos em determinadas áreas de formação e dependências administrativas, práticas pedagógicas excludentes de uma visão de integralidade e de trabalho em equipe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28760" y="571680"/>
            <a:ext cx="822960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800" spc="-1" strike="noStrike">
                <a:solidFill>
                  <a:srgbClr val="c00000"/>
                </a:solidFill>
                <a:latin typeface="Calibri"/>
              </a:rPr>
              <a:t>Desafios</a:t>
            </a:r>
            <a:r>
              <a:rPr b="1" i="1" lang="en-GB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7520" y="1698480"/>
            <a:ext cx="787212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Mudanças necessárias para transformar o perfil do profissional formado: mais profundas do que se imaginava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Envolvem conceitos inteiramente novos: saúde, educação, responsabilidade social, mudança institucional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Implicam novas relações de poder tanto nos espaços de formação quanto nos espaços de gestão do trabalho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Grande experiência na construção da mudança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Indispensável ação política mais geral para cenários mais favoráveis às mudança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28760" y="1500120"/>
            <a:ext cx="8001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266760" algn="just">
              <a:lnSpc>
                <a:spcPct val="150000"/>
              </a:lnSpc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Defesa da ressingularização do trabalho em saúde: capacidade de subjetivação e sociabilidade heterogenética (</a:t>
            </a:r>
            <a:r>
              <a:rPr b="0" i="1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versus</a:t>
            </a:r>
            <a:r>
              <a:rPr b="0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 afirmação das identidades profissionais), educação permanente, gestão participativa e comprometida ética e politicamente com a qualidade do andar a vida etc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71680" y="571680"/>
            <a:ext cx="79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5400"/>
                </a:solidFill>
                <a:latin typeface="Calibri"/>
              </a:rPr>
              <a:t>Uma prática profissional instituinte gera..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0040" y="157176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compromisso social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publicização”das políticas e dos espaç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trabalho e educação a partir da multiplicidade e diversi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projetos coletiv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análise cotidiana dos processos, gestões e relaçõe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diálogos com a vida cotidiana, circuitos, trajetos, itinerário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169040" y="4962600"/>
            <a:ext cx="197496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Somada à sedução das flore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34936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ão faz parte dos nossos plan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confundir justiça com </a:t>
            </a:r>
            <a:r>
              <a:rPr b="1" i="1" lang="en-GB" sz="2400" spc="-1" strike="noStrike">
                <a:solidFill>
                  <a:srgbClr val="de9898"/>
                </a:solidFill>
                <a:latin typeface="Comic Sans MS"/>
              </a:rPr>
              <a:t>intolerância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575240"/>
            <a:ext cx="39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A sociedade que pulsa em nossos sonh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ão será feita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de heróicos penitente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guardiões de velha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e absolutas verdade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567072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Mas sim de homens e mulhere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repletos de dignidade,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paixões e dúvida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4936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... queremos a liber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de não precisarmos abaixar os </a:t>
            </a:r>
            <a:r>
              <a:rPr b="1" i="1" lang="en-GB" sz="2400" spc="-1" strike="noStrike">
                <a:solidFill>
                  <a:srgbClr val="9e0627"/>
                </a:solidFill>
                <a:latin typeface="Comic Sans MS"/>
              </a:rPr>
              <a:t>olhos</a:t>
            </a: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 diante da miséria de muit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96920" y="177948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e do privilégio de pouco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336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em tampouco igual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com mesmice e tédio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3300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28760" y="500040"/>
            <a:ext cx="8143920" cy="6138720"/>
          </a:xfrm>
          <a:prstGeom prst="rect">
            <a:avLst/>
          </a:prstGeom>
          <a:solidFill>
            <a:srgbClr val="ffff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AHIA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olítica Estadual de Gestão do Trabalho e da Educação Permanente   - SUS Bahia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alvador, julho de 2008. </a:t>
            </a:r>
            <a:r>
              <a:rPr b="0" i="1" lang="pt-BR" sz="1400" spc="-1" strike="noStrike">
                <a:solidFill>
                  <a:srgbClr val="333333"/>
                </a:solidFill>
                <a:latin typeface="Calibri"/>
              </a:rPr>
              <a:t>mimeo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RASIL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Constituição da República Federativa do Brasil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1988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RASIL, 2005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rincípios e Diretrizes para a Gestão do Trabalho no SUS (NOB/RH-SUS)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Ministério da Saúde, Conselho Nacional de Saúde. - 3. educação. rev. atual. Brasília, DF, 2005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AMPOS,  G.W.S. Subjetividade e administração de pessoal: considerações sobre modos de gerenciar o trabalho em equipes de saúde. In: Merhy EE, Onocko RT, organizadores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gir em saúde um desafio para o público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Editora Hucitec; 1997. p. 229-66. 99; 4:221-42.  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ECCIM, Ricardo Burg e FERLA, Alcindo Antônio. Educação e saúde: ensino e cidadania como travessia de fronteiras. Trab. Educ. Saúde, v. 6 n. 3, p. 443-456, nov.2008/fev.2009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JAEGER, M.L., CECCIM, R. B. e MACHADO, M.H., 2004. Gestão do Trabalho e da Educação na Saúde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Revista Brasileira de Saúde da Família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Edição especial: 86-103, 2004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GUATTARI, F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 três ecologias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ampinas, Papirus, 1990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JAEGER, Maria Luiza,  CECCIM, Ricardo Burg e MACHADO, Maria Helena. Gestão do Trabalho e da Educação na Saúde. Revista Brasileira de Saúde da Família, Edição especial: 86-103, 2004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ACHADO, M.H. Trabalhadores da Saúde e sua trajetória na reforma sanitária. In: BRAGA, D.G. , MACEDO, J.C. , TEIXEIRA, M. e SANTOS, L. (orgs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Curso Negociação do Trabalho no SUS: caderno de textos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Fundação Oswaldo Cruz. Escola Nacional de Saúde Pública. Rio de Janeiro: EAD/ENSP, 2008. p.70-89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erhy EE, Onocko RT, organizadores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gir em saúde um desafio para o público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Editora Hucitec; 1997. p. 229-66. 99; 4:221-42.  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ORIN, E. </a:t>
            </a:r>
            <a:r>
              <a:rPr b="0" i="1" lang="pt-BR" sz="1400" spc="-1" strike="noStrike">
                <a:solidFill>
                  <a:srgbClr val="333333"/>
                </a:solidFill>
                <a:latin typeface="Calibri"/>
              </a:rPr>
              <a:t>A cabeça bem feita: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 repensar a reforma, reformar o pensamento. Rio de Janeiro: Bertrand Brasil, 2000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ROVERE, M. Redes Nómades, algunas reflexiones desde una práctica de intervención. Institucional. In: Wolfberg E. (comp.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revención en Salud Mental.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 Ed. Lugar, Buenos Aires, 2002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AWAIA, B. B.  A Dimensão Ético-Afetiva da Classe Trabalhadora. In: Bader Burihan Sawaia. (Org.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Novas Veredas da Psicologia Social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Brasiliense e EDUC, 1995, v. 1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CHRAIBER, Lilia Blima et al . Planejamento, gestão e avaliação em saúde: identificando problemas.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 Ciênc. saúde coletiva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  Rio de Janeiro,  v. 4,  n. 2,  1999 . 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85840" y="285840"/>
            <a:ext cx="8643960" cy="6335640"/>
          </a:xfrm>
          <a:prstGeom prst="rect">
            <a:avLst/>
          </a:prstGeom>
          <a:solidFill>
            <a:srgbClr val="45472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“</a:t>
            </a: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... uma coisa é pôr idéias arranjadas,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outra é lidar com um país de pessoas,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de carne e sangue, de mil-e-tantas-miséria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...tanta gente - dá susto saber - e nenhum se sossega: todos nascendo, crescendo, se casando, querendo colocação de emprego, comida, saúde, riqueza, ser importante, querendo chuva e bons negócios...”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6"/>
                </a:solidFill>
                <a:latin typeface="Calibri"/>
              </a:rPr>
              <a:t>Guimarães Rosa - Grande Sertão: Veredas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000" spc="-1" strike="noStrike">
                <a:solidFill>
                  <a:srgbClr val="99284c"/>
                </a:solidFill>
                <a:latin typeface="Calibri"/>
              </a:rPr>
              <a:t>Do que falar...</a:t>
            </a:r>
            <a:endParaRPr b="0" lang="en-US" sz="4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680" y="1500120"/>
            <a:ext cx="7635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o trabalho na saú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as complexidades do cotidiano 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as limitações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os projetos: cuidado em saúde mental, reforma psiquiátrica, produção do conhecimento e transformação do cuidado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e pistas para a ação..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85880" y="5716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000" spc="-1" strike="noStrike">
                <a:solidFill>
                  <a:srgbClr val="99284c"/>
                </a:solidFill>
                <a:latin typeface="Calibri"/>
              </a:rPr>
              <a:t>O TRABALHO NA SAÚDE</a:t>
            </a:r>
            <a:br>
              <a:rPr sz="4000"/>
            </a:br>
            <a:r>
              <a:rPr b="1" i="1" lang="pt-BR" sz="1800" spc="-1" strike="noStrike">
                <a:solidFill>
                  <a:srgbClr val="99284c"/>
                </a:solidFill>
                <a:latin typeface="Calibri"/>
              </a:rPr>
              <a:t>Peduzzi, 1998 e Campos, 1997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040" y="1785960"/>
            <a:ext cx="79297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COMPLEXO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INSERIDO NO CONTEXTO SOCIAL AMPLO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PRODUZIDO NAS RELAÇÕES SOCIAS - </a:t>
            </a:r>
            <a:r>
              <a:rPr b="0" lang="pt-BR" sz="1600" spc="-1" strike="noStrike">
                <a:solidFill>
                  <a:srgbClr val="333333"/>
                </a:solidFill>
                <a:latin typeface="Calibri"/>
              </a:rPr>
              <a:t>estabelece ordens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EM EQUIPE - COLETIVO - FRAGMENTADO </a:t>
            </a:r>
            <a:r>
              <a:rPr b="0" lang="pt-BR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just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INFLUÊNCIA DO TAYLORISMO - </a:t>
            </a:r>
            <a:r>
              <a:rPr b="0" lang="pt-BR" sz="1600" spc="-1" strike="noStrike">
                <a:solidFill>
                  <a:srgbClr val="333333"/>
                </a:solidFill>
                <a:latin typeface="Calibri"/>
              </a:rPr>
              <a:t>acumulação de normas administrativas e padronizações técnicas, guiadas por crenças na possibilidade de controlar e regulamentar o conjunto total do trabalho.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99284c"/>
                </a:solidFill>
                <a:latin typeface="Calibri"/>
              </a:rPr>
              <a:t>Uma nova percepção do mundo:</a:t>
            </a:r>
            <a:br>
              <a:rPr sz="2800"/>
            </a:br>
            <a:r>
              <a:rPr b="1" i="1" lang="pt-BR" sz="2800" spc="-1" strike="noStrike">
                <a:solidFill>
                  <a:srgbClr val="99284c"/>
                </a:solidFill>
                <a:latin typeface="Calibri"/>
              </a:rPr>
              <a:t>interdisciplinaridade/complexida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760" y="2000160"/>
            <a:ext cx="80722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Há uma inadequação cada vez mais ampla, profunda e grave entre os </a:t>
            </a:r>
            <a:r>
              <a:rPr b="1" lang="pt-BR" sz="2000" spc="-1" strike="noStrike" u="sng">
                <a:solidFill>
                  <a:srgbClr val="333333"/>
                </a:solidFill>
                <a:uFillTx/>
                <a:latin typeface="Calibri"/>
              </a:rPr>
              <a:t>saberes separados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, fragmentados, compartimentados entre disciplinas e, por outro lado, </a:t>
            </a:r>
            <a:r>
              <a:rPr b="1" lang="pt-BR" sz="2000" spc="-1" strike="noStrike" u="sng">
                <a:solidFill>
                  <a:srgbClr val="333333"/>
                </a:solidFill>
                <a:uFillTx/>
                <a:latin typeface="Calibri"/>
              </a:rPr>
              <a:t>realidades e problemas cada vez mais poli disciplinares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, transversais, multidimensionais , transnacionais, globais, planetários. [...]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A hiperespecialização impede de ver o global (que ela fragmenta em parcelas), bem como o essencial (que ela dilui). [...] o retalhamento das disciplinas (no Ensino) torna impossível apreender "o que é tecido junto", isto é, o complexo, segundo o sentido original do termo.</a:t>
            </a:r>
            <a:br>
              <a:rPr sz="2000"/>
            </a:b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1" i="1" lang="pt-BR" sz="1600" spc="-1" strike="noStrike">
                <a:solidFill>
                  <a:srgbClr val="333333"/>
                </a:solidFill>
                <a:latin typeface="Calibri"/>
              </a:rPr>
              <a:t>Edgar Morin,</a:t>
            </a:r>
            <a:r>
              <a:rPr b="0" i="1" lang="pt-BR" sz="1600" spc="-1" strike="noStrike">
                <a:solidFill>
                  <a:srgbClr val="333333"/>
                </a:solidFill>
                <a:latin typeface="Calibri"/>
              </a:rPr>
              <a:t> 2000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8120" y="304920"/>
            <a:ext cx="5790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133720"/>
            <a:ext cx="784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438280"/>
            <a:ext cx="76964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760" y="500040"/>
            <a:ext cx="802944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 que se considera Trabalho Precário?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A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noção de trabalho precário pode ser utilizada para caracterizar uma infinidade de situações oriundas das relações de trabalho, como por exemplo: baixos vencimentos ou salários ou inadequadas condições de trabalho. De maneira geral, assinala-se três situações: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Ausência ou redução de direitos sociais;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Condições inadequadas de trabalho que põem em risco saúde ou a vida do trabalhador;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Instabilidade do vínculo de trabalho, em face de sua constituição irregular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28760" y="577800"/>
            <a:ext cx="8215200" cy="549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Como é que faz pra lavar a roup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Vai na fonte, vai na fonte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Como é que faz pra raiar o di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No horizonte, no horizonte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Este lugar é uma maravilha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Mas como é que faz pra sair da ilh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Pela ponte, pela ponte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7572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A Ponte - </a:t>
            </a:r>
            <a:r>
              <a:rPr b="0" i="1" lang="pt-PT" sz="2000" spc="-1" strike="noStrike">
                <a:solidFill>
                  <a:srgbClr val="444444"/>
                </a:solidFill>
                <a:latin typeface="Lucida Calligraphy"/>
                <a:ea typeface="Times New Roman"/>
              </a:rPr>
              <a:t>Lenine e Lula Queiroga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28760" y="3643200"/>
            <a:ext cx="214920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571680" y="2357280"/>
            <a:ext cx="7772400" cy="2273400"/>
            <a:chOff x="571680" y="2357280"/>
            <a:chExt cx="7772400" cy="227340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571680" y="2357280"/>
              <a:ext cx="777240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1680" y="2357280"/>
              <a:ext cx="777240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d1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807440" y="5929200"/>
            <a:ext cx="3591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800" spc="-1" strike="noStrike">
                <a:solidFill>
                  <a:srgbClr val="0070c0"/>
                </a:solidFill>
                <a:latin typeface="Arial"/>
              </a:rPr>
              <a:t>Ceccim, Jaeger e Machado, 2004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14680" y="642960"/>
            <a:ext cx="5876640" cy="5000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5657760"/>
            <a:ext cx="9144000" cy="858600"/>
          </a:xfrm>
          <a:prstGeom prst="rect">
            <a:avLst/>
          </a:prstGeom>
          <a:solidFill>
            <a:srgbClr val="faf1f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NOB RH/SUS + RESOLUÇÃO 335  e 330 CNS + PACTO DE GESTÃO =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GESTÃO DO TRABALHO, DESENVOLVIMENTO PROFISSIONAL,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SAÚDE OCUPACIONAL E CONTROLE SOCIAL 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ndrei Braga</dc:creator>
  <dc:description/>
  <dc:language>en-US</dc:language>
  <cp:lastModifiedBy>Usuário do Windows</cp:lastModifiedBy>
  <dcterms:modified xsi:type="dcterms:W3CDTF">2010-05-25T10:48:02Z</dcterms:modified>
  <cp:revision>49</cp:revision>
  <dc:subject/>
  <dc:title>Slide 1</dc:title>
</cp:coreProperties>
</file>