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CB19-44D3-4956-A000-CEEBBD8C5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FE56-59E4-4574-8944-FDDA3400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7F2A-7F0B-4BF8-8392-40B64CE28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330B-F823-43C6-914D-B45DA41FC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9674-355F-438E-9F3A-C0209BB5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A61E-6728-4012-94B2-8240F6BC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BC87-6B74-462E-BA2F-15E4A77B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B57D-E141-4D9B-AC3A-10288B38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DF6-63A6-453B-8BBC-8F42181B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6471-155C-4CA5-A2CC-B00CCE76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9148-377A-438E-9979-D6D35F68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75C8-6B1F-4ECD-8992-5E038B54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A779-DCA7-47AB-9971-51BFA717064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00120" y="713880"/>
            <a:ext cx="74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194b36"/>
                </a:solidFill>
                <a:latin typeface="Arial Narrow"/>
              </a:rPr>
              <a:t>CONFERÊNCIA ESTADUAL DE SAÚDE MENTAL -  INTERSETORIAL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2" name="Espaço Reservado para Conteúdo 3" descr="imagem.JPG"/>
          <p:cNvPicPr/>
          <p:nvPr/>
        </p:nvPicPr>
        <p:blipFill>
          <a:blip r:embed="rId1"/>
          <a:stretch/>
        </p:blipFill>
        <p:spPr>
          <a:xfrm>
            <a:off x="3000240" y="2071800"/>
            <a:ext cx="2907000" cy="2906640"/>
          </a:xfrm>
          <a:prstGeom prst="rect">
            <a:avLst/>
          </a:prstGeom>
          <a:ln w="0">
            <a:noFill/>
          </a:ln>
        </p:spPr>
      </p:pic>
      <p:sp>
        <p:nvSpPr>
          <p:cNvPr id="43" name="CaixaDeTexto 6"/>
          <p:cNvSpPr/>
          <p:nvPr/>
        </p:nvSpPr>
        <p:spPr>
          <a:xfrm>
            <a:off x="357120" y="500040"/>
            <a:ext cx="1214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0" spc="-1" strike="noStrike">
                <a:solidFill>
                  <a:srgbClr val="194b36"/>
                </a:solidFill>
                <a:latin typeface="Arial Narrow"/>
              </a:rPr>
              <a:t>IV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CaixaDeTexto 7"/>
          <p:cNvSpPr/>
          <p:nvPr/>
        </p:nvSpPr>
        <p:spPr>
          <a:xfrm>
            <a:off x="428760" y="528624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540000"/>
                </a:solidFill>
                <a:latin typeface="Times New Roman"/>
              </a:rPr>
              <a:t>Por uma reforma psiquiátrica antimanicomia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CaixaDeTexto 9"/>
          <p:cNvSpPr/>
          <p:nvPr/>
        </p:nvSpPr>
        <p:spPr>
          <a:xfrm>
            <a:off x="1785960" y="5929200"/>
            <a:ext cx="52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13 a 15 de maio de 201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Belo Horizonte - M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01040" cy="13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SM/APS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Levantamento da disponibilidade da Atenção em SM nos 673 municípios com menos de 20 mil/hab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1" name="Gráfico 6" descr=""/>
          <p:cNvPicPr/>
          <p:nvPr/>
        </p:nvPicPr>
        <p:blipFill>
          <a:blip r:embed="rId1"/>
          <a:stretch/>
        </p:blipFill>
        <p:spPr>
          <a:xfrm>
            <a:off x="420840" y="2066760"/>
            <a:ext cx="830232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6760" y="571320"/>
            <a:ext cx="407196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 u="sng">
                <a:solidFill>
                  <a:srgbClr val="000000"/>
                </a:solidFill>
                <a:uFillTx/>
                <a:latin typeface="Arial Narrow"/>
              </a:rPr>
              <a:t>Centros de Convivência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71680" y="1285920"/>
            <a:ext cx="4929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94b36"/>
                </a:solidFill>
                <a:latin typeface="Calibri"/>
              </a:rPr>
              <a:t>Minas Gerais conta hoje com 23 Centros de Convivência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9 em Belo Horizont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de Betim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Uberlândia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Governador Valadar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Barbacena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Sabará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Juiz de Fora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Conselheiro Lafaiet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Itanhandu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São Joaquim de Bica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Itaúna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Natércia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São Gonçalo do Rio Abaixo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Alfena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Ipatinga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Ouro Preto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Título 1"/>
          <p:cNvSpPr/>
          <p:nvPr/>
        </p:nvSpPr>
        <p:spPr>
          <a:xfrm rot="393000">
            <a:off x="5256360" y="555120"/>
            <a:ext cx="357156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94b36"/>
                </a:solidFill>
                <a:latin typeface="Verdana"/>
              </a:rPr>
              <a:t>Associação de Usuários </a:t>
            </a:r>
            <a:br>
              <a:rPr sz="2400"/>
            </a:br>
            <a:r>
              <a:rPr b="1" i="1" lang="pt-BR" sz="2400" spc="-1" strike="noStrike">
                <a:solidFill>
                  <a:srgbClr val="194b36"/>
                </a:solidFill>
                <a:latin typeface="Verdana"/>
              </a:rPr>
              <a:t>e Familia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94b36"/>
                </a:solidFill>
                <a:latin typeface="Verdana"/>
              </a:rPr>
              <a:t>em 21 municípi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5000760" y="3571920"/>
            <a:ext cx="3571920" cy="150012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6600"/>
                </a:solidFill>
                <a:uFillTx/>
                <a:latin typeface="Arial"/>
              </a:rPr>
              <a:t>GERAÇÃO DE REND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26 experiências em 16 municípios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571680"/>
            <a:ext cx="8072640" cy="60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000000"/>
                </a:solidFill>
                <a:uFillTx/>
                <a:latin typeface="Arial Narrow"/>
              </a:rPr>
              <a:t>HOSPITAIS PSIQUIÁTRICOS</a:t>
            </a:r>
            <a:br>
              <a:rPr sz="4000"/>
            </a:br>
            <a:br>
              <a:rPr sz="4000"/>
            </a:b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Inicio dos anos 80 em torno de 8 mil leitos, distribuídos em 36 hospitais (maioria conveniado ao SUS)</a:t>
            </a:r>
            <a:br>
              <a:rPr sz="2800"/>
            </a:br>
            <a:br>
              <a:rPr sz="2400"/>
            </a:br>
            <a:br>
              <a:rPr sz="2400"/>
            </a:b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Atualmente são </a:t>
            </a:r>
            <a:r>
              <a:rPr b="1" lang="pt-BR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9 Hospitais Psiquiátricos, sendo 3 públicos e demais conveniados ao SUS</a:t>
            </a:r>
            <a:br>
              <a:rPr sz="2400"/>
            </a:br>
            <a:br>
              <a:rPr sz="2400"/>
            </a:br>
            <a:r>
              <a:rPr b="1" i="1" lang="pt-BR" sz="2800" spc="-1" strike="noStrike">
                <a:solidFill>
                  <a:srgbClr val="194b36"/>
                </a:solidFill>
                <a:latin typeface="Arial Narrow"/>
                <a:ea typeface="Times New Roman"/>
              </a:rPr>
              <a:t>Total de leitos 2.425 - sendo que 1.049 são de longa permanência e 1.376 de leitos para pacientes agudos.</a:t>
            </a:r>
            <a:br>
              <a:rPr sz="2400"/>
            </a:br>
            <a:br>
              <a:rPr sz="2400"/>
            </a:b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0" y="114300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 u="sng">
                <a:solidFill>
                  <a:srgbClr val="194b36"/>
                </a:solidFill>
                <a:uFillTx/>
                <a:latin typeface="Arial Narrow"/>
              </a:rPr>
              <a:t>Financiamento Estadual Fixo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Deliberação SES/MG/CIB-SUS-MG nº 055, de 11/12/03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Institui incentivo financeiro destinado aos municípios interessados na implantação da Rede de Serviços de Saúde Mental no valor de 15 mil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Premio Jose Cezar de Moraes – 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seleção de 10 melhores trabalhos que relatem experiências exitosas dos municípios na área de saúde mental. Recurso anual de 150 mil reai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Recurso do tesouro para aquisição de medicamento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900 mil reais anuais para ajuda no custeio de CAPS i e CAPS ad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Assistência Psiquiátrica Final dos anos 70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4753080" cy="3109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 rot="20936400">
            <a:off x="5398920" y="1341000"/>
            <a:ext cx="3745080" cy="2952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usuario\Meus documentos\fotos\Ituiutaba 2008\Cópia de P5210153.JPG"/>
          <p:cNvPicPr/>
          <p:nvPr/>
        </p:nvPicPr>
        <p:blipFill>
          <a:blip r:embed="rId3"/>
          <a:stretch/>
        </p:blipFill>
        <p:spPr>
          <a:xfrm rot="19927200">
            <a:off x="3492360" y="3715920"/>
            <a:ext cx="3672000" cy="2422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usuario\Meus documentos\fotos\Ituiutaba 2008\Cópia de P5210131.JPG"/>
          <p:cNvPicPr/>
          <p:nvPr/>
        </p:nvPicPr>
        <p:blipFill>
          <a:blip r:embed="rId4"/>
          <a:stretch/>
        </p:blipFill>
        <p:spPr>
          <a:xfrm rot="486600">
            <a:off x="6587640" y="4005000"/>
            <a:ext cx="2268720" cy="2352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usuario\Meus documentos\fotos\Ituiutaba 2008\Cópia de P5210155.JPG"/>
          <p:cNvPicPr/>
          <p:nvPr/>
        </p:nvPicPr>
        <p:blipFill>
          <a:blip r:embed="rId5"/>
          <a:stretch/>
        </p:blipFill>
        <p:spPr>
          <a:xfrm rot="20849400">
            <a:off x="395280" y="3933360"/>
            <a:ext cx="329580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900000" y="1557360"/>
            <a:ext cx="72154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0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Minas e a Saúde</a:t>
            </a:r>
            <a:endParaRPr b="1" i="1" lang="en-US" sz="4800" spc="1" strike="noStrike">
              <a:ln w="9360">
                <a:solidFill>
                  <a:srgbClr val="008000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Mental</a:t>
            </a:r>
            <a:endParaRPr b="1" i="1" lang="en-US" sz="4800" spc="1" strike="noStrike">
              <a:ln w="9360">
                <a:solidFill>
                  <a:srgbClr val="008000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1793880" y="1981080"/>
            <a:ext cx="555480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21384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PDR/MG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13 MACRORREGIÕES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Minas Gerais possui 20.033.665 hab.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 em 853 municípios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(DATASUS, 2009)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 u="sng">
                <a:solidFill>
                  <a:srgbClr val="194b36"/>
                </a:solidFill>
                <a:uFillTx/>
                <a:latin typeface="Arial Narrow"/>
              </a:rPr>
              <a:t>Dos 853 municípios mineiros 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22644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194b36"/>
                </a:solidFill>
                <a:latin typeface="Arial Narrow"/>
              </a:rPr>
              <a:t>671 têm menos de 20mil h. 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22644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194b36"/>
                </a:solidFill>
                <a:latin typeface="Arial Narrow"/>
              </a:rPr>
              <a:t>153 tem entre 20 e 100 mil/hab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22644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194b36"/>
                </a:solidFill>
                <a:latin typeface="Arial Narrow"/>
              </a:rPr>
              <a:t>29 municípios  superior a 100 mil/hab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 u="sng">
                <a:solidFill>
                  <a:srgbClr val="194b36"/>
                </a:solidFill>
                <a:uFillTx/>
                <a:latin typeface="Arial Narrow"/>
              </a:rPr>
              <a:t>Menos de 20 mil/hab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22644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 Narrow"/>
              </a:rPr>
              <a:t>Aproximadamente 79% do total de municípios de MG.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22644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 Narrow"/>
              </a:rPr>
              <a:t>Somando-se a população de todos esses municípios, tem-se mais de 5 milhões de habitantes.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22644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 Narrow"/>
              </a:rPr>
              <a:t>São quase 30 % da população de nosso Estado.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22644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 Narrow"/>
              </a:rPr>
              <a:t>População pequena em área geográfica ampla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142920" y="1714680"/>
            <a:ext cx="8572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75 CAPS I – 8 às 18 h/5 dias útei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43 CAPS II – 8 às 18 h/5 dias útei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1 CAPS III – atenção contínua 24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1 CAPSi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6 CAPSad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m torno de  42 projetos  em processo de avaliação para credenciamento pela SES/MG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746748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 Narrow"/>
              </a:rPr>
              <a:t>156 Centros de Atenção Psicossocial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500120" y="928800"/>
            <a:ext cx="6480360" cy="5041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7093080" y="4724280"/>
            <a:ext cx="1374480" cy="1079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 rot="5400000">
            <a:off x="7332840" y="3086640"/>
            <a:ext cx="2879640" cy="10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Verdana"/>
              </a:rPr>
              <a:t>Responsabilidade temática: SES/AGR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14200" y="428760"/>
            <a:ext cx="8447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Taxa de cobertura de CAPS – Minas Gera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68360" y="4149720"/>
            <a:ext cx="1944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LEGEND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539640" y="4437000"/>
            <a:ext cx="23986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00"/>
                </a:solidFill>
                <a:latin typeface="Arial"/>
              </a:rPr>
              <a:t>Cobertura de CAPS por 100.000 habitante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444840" y="6524640"/>
            <a:ext cx="3959280" cy="1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600" spc="-1" strike="noStrike">
                <a:solidFill>
                  <a:srgbClr val="000000"/>
                </a:solidFill>
                <a:latin typeface="Arial"/>
              </a:rPr>
              <a:t>Disponível em http://200.198.43.8/SES/MG. Acesso em 10/09/2009.</a:t>
            </a: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9" descr="Rosa_dos_Ventos_dsfdfdsdsaljdl"/>
          <p:cNvPicPr/>
          <p:nvPr/>
        </p:nvPicPr>
        <p:blipFill>
          <a:blip r:embed="rId3"/>
          <a:stretch/>
        </p:blipFill>
        <p:spPr>
          <a:xfrm>
            <a:off x="2987640" y="5300640"/>
            <a:ext cx="576360" cy="5112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"/>
          <p:cNvSpPr/>
          <p:nvPr/>
        </p:nvSpPr>
        <p:spPr>
          <a:xfrm>
            <a:off x="4968720" y="5705640"/>
            <a:ext cx="16909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00"/>
                </a:solidFill>
                <a:latin typeface="Arial"/>
              </a:rPr>
              <a:t>Fonte: SISPACTO/MS/TABNET</a:t>
            </a:r>
            <a:r>
              <a:rPr b="1" lang="pt-BR" sz="7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192240" y="6518160"/>
            <a:ext cx="3051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Calibri"/>
              </a:rPr>
              <a:t>O valor em negrito corresponde à meta pactuada pelo estado.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2" descr=""/>
          <p:cNvPicPr/>
          <p:nvPr/>
        </p:nvPicPr>
        <p:blipFill>
          <a:blip r:embed="rId4"/>
          <a:stretch/>
        </p:blipFill>
        <p:spPr>
          <a:xfrm>
            <a:off x="539640" y="4724280"/>
            <a:ext cx="1086120" cy="17812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3"/>
          <p:cNvSpPr/>
          <p:nvPr/>
        </p:nvSpPr>
        <p:spPr>
          <a:xfrm>
            <a:off x="6948360" y="577836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Alcançado em MG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4932360" y="184464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Nor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5724360" y="2820960"/>
            <a:ext cx="106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Jequitinhonh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6084720" y="357336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Les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5838840" y="421308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Leste do Su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5435640" y="501984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Sudes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4932360" y="465300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Centro Su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3924360" y="501984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Su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5243400" y="3500280"/>
            <a:ext cx="8413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Centr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3635280" y="279864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Noroes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2092320" y="3429000"/>
            <a:ext cx="1471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Triângulo do Nor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2482920" y="3933720"/>
            <a:ext cx="122400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Triângulo do Su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6443640" y="242100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Nordes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4295880" y="4167360"/>
            <a:ext cx="106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Oes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71680" y="713880"/>
            <a:ext cx="810072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Cobertura de CAPS por macro-região de Minas Gerais - REDE REAL/ 2009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57120" y="1319040"/>
          <a:ext cx="8429760" cy="5178600"/>
        </p:xfrm>
        <a:graphic>
          <a:graphicData uri="http://schemas.openxmlformats.org/drawingml/2006/table">
            <a:tbl>
              <a:tblPr/>
              <a:tblGrid>
                <a:gridCol w="1071720"/>
                <a:gridCol w="785880"/>
                <a:gridCol w="1000080"/>
                <a:gridCol w="785880"/>
                <a:gridCol w="857160"/>
                <a:gridCol w="785880"/>
                <a:gridCol w="785520"/>
                <a:gridCol w="785880"/>
                <a:gridCol w="642960"/>
                <a:gridCol w="928800"/>
              </a:tblGrid>
              <a:tr h="622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CRO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te. de município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pulação da Macrorregião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I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d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/ 100.000 hab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351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IÂNGULO DO SUL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98.78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7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O SUL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3328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.68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236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EST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98.30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71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STE DO SUL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72.46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59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225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EQUITINHONHA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6.34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5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236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O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357.60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59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DEST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589.17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57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51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RTE DE MINA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.609.79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75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348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IÂNG. DO NORT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215.85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49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240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ROEST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58.30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38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RDEST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17.59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54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ST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464.28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38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240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L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621.87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4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inas Gerai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5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3366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5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840" y="714240"/>
            <a:ext cx="564372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77  Serviços Residenciais Terapêuticos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em torno de 760 morador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500040" y="1737360"/>
            <a:ext cx="367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6 Barbacen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5 Belo Horizon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 Beti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 Monte Carmel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 Araçua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 Conselheiro Lafaie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4 Juiz de For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 Montes Claro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 Mutu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 Itacarambí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7 Alfena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 Divinópol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 Contage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 rot="181200">
            <a:off x="3850920" y="1857240"/>
            <a:ext cx="4981680" cy="220824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PROGRAMA DE VOLTA PARA CAS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Em torno de 540 beneficiado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79 municípios cadastrados no Program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Meta de desospitalização para 2010: 75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CaixaDeTexto 5"/>
          <p:cNvSpPr/>
          <p:nvPr/>
        </p:nvSpPr>
        <p:spPr>
          <a:xfrm>
            <a:off x="4500720" y="457200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94b36"/>
                </a:solidFill>
                <a:latin typeface="Times New Roman"/>
              </a:rPr>
              <a:t>Atualmente, temos 1045 moradores nos 19 hospitais psiquiátricos do Estado</a:t>
            </a:r>
            <a:r>
              <a:rPr b="1" i="1" lang="pt-BR" sz="2400" spc="-1" strike="noStrike">
                <a:solidFill>
                  <a:srgbClr val="b2b2b2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2T20:54:18Z</dcterms:created>
  <dc:creator>flaviar</dc:creator>
  <dc:description/>
  <dc:language>en-US</dc:language>
  <cp:lastModifiedBy>Casa</cp:lastModifiedBy>
  <dcterms:modified xsi:type="dcterms:W3CDTF">2010-05-13T01:53:07Z</dcterms:modified>
  <cp:revision>50</cp:revision>
  <dc:subject/>
  <dc:title>Reflexões Sobre a Reforma da Assistência Psiquiátrica  XII Congresso Mineiro de Psiquiatria    junho de 2008</dc:title>
</cp:coreProperties>
</file>